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917-5770-4BF9-9A52-E00BA868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4D6-7DBE-49D1-894A-27CAB95A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139-1C86-4605-9FDA-AEA0AC29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7E9-6A76-49C2-AE9B-B89C808A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77B0-6222-42CB-A228-0236E445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58E6-B969-44A1-B39E-CED9C19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A2AE-DEAC-46DE-83E2-000BF200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929D-9FE3-4024-B590-7DF98830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5A87-339E-4730-BBB9-61247B97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E99F-DDE4-4F45-9E0B-D2FF4B4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47AD-6B63-45E4-A5D3-AE159EB5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96D-490D-45F4-A674-0F474F6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FD45-5B43-49FE-A307-6D49C72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7F20-7683-4225-9AC5-CDC325B6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BA0B-E183-42FE-B15D-485CACC1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7DF8-386E-48E5-AA37-49E3623D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F103-F29E-4628-A18E-2BBF5680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FA5-3C4A-4AF3-85DD-FF878410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41C-7D8C-4697-B65C-56177043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AF2-CFE5-4B29-BE58-C743CD29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085-C839-490C-8472-A85C3DFA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F94-06A5-401B-98CD-15C72C9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88C-D31B-4E0A-99CC-C7494B3C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6BD-6187-4A34-ABD2-4F99E39B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5635-6F62-45B2-8634-03443140F0CC}" type="slidenum">
              <a:rPr b="0" lang="en-GB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682120" y="4952880"/>
          <a:ext cx="4604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82120" y="4952880"/>
                    <a:ext cx="460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E5FB-ADAA-4A44-8FFC-86130397056C}" type="slidenum">
              <a:rPr b="0" lang="en-GB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NZ" sz="5400" spc="-1" strike="noStrike">
                <a:solidFill>
                  <a:srgbClr val="ff9900"/>
                </a:solidFill>
                <a:latin typeface="Tahoma"/>
              </a:rPr>
              <a:t>Lead Teachers</a:t>
            </a:r>
            <a:br>
              <a:rPr sz="5400"/>
            </a:br>
            <a:r>
              <a:rPr b="1" lang="en-NZ" sz="5400" spc="-1" strike="noStrike">
                <a:solidFill>
                  <a:srgbClr val="ff9900"/>
                </a:solidFill>
                <a:latin typeface="Tahoma"/>
              </a:rPr>
              <a:t>Working with Colleagues</a:t>
            </a:r>
            <a:br>
              <a:rPr sz="5400"/>
            </a:br>
            <a:br>
              <a:rPr sz="54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How Teachers Respond to Professional Development</a:t>
            </a:r>
            <a:br>
              <a:rPr sz="4000"/>
            </a:br>
            <a:br>
              <a:rPr sz="4000"/>
            </a:b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From:</a:t>
            </a: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en-NZ" sz="2800" spc="-1" strike="noStrike">
                <a:solidFill>
                  <a:srgbClr val="ffff00"/>
                </a:solidFill>
                <a:latin typeface="Tahoma"/>
              </a:rPr>
              <a:t>Professional Learning and Development: A Best Evidence Synthesis of Impact on Student Outcomes </a:t>
            </a:r>
            <a:br>
              <a:rPr sz="2800"/>
            </a:b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by</a:t>
            </a:r>
            <a:r>
              <a:rPr b="0" i="1" lang="en-NZ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Helen Timperley, Irene Fung, Aaron Wilson and Heather Barrar</a:t>
            </a:r>
            <a:br>
              <a:rPr sz="28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Teachers make a difference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here is a direct relationship between teacher practice and student learning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How teachers change their practice impacts on student outcome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9900"/>
                </a:solidFill>
                <a:latin typeface="Tahoma"/>
              </a:rPr>
              <a:t>Three iterative learning mechanisms provide the framework for professional learning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Cueing prior knowledg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ecoming aware of and understanding new information/skills consistent with current values &amp; beliefs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reating dissonance with current values &amp; beliefs, which requires reconstruction and repositioning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9900"/>
                </a:solidFill>
                <a:latin typeface="Tahoma"/>
              </a:rPr>
              <a:t>But remember that learning processes are complex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hey are not  a tidy separation into the three mechanism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hey are likely to take different forms for different participant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hey may involve a single mechanism or a combination of the thre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9900"/>
                </a:solidFill>
                <a:latin typeface="Tahoma"/>
              </a:rPr>
              <a:t>Teachers can react in a number of different ways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427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reject / ignore new theory &amp; practice and continue with prior practice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would like to implement new practice but have insufficient skills 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believe they are enacting new practice but continue with prior practice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select parts of new theory &amp; practice and adapt to current practice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implement as required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actively engage with, own &amp; apply new theory &amp; practice and change practice 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substantively enhance regulation of own and 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others’ learning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How did 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you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 respond during the AfL professional developmen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What helped you mos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How are your ‘cascading’ teachers responding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How can we best support the learning process for our teachers to enable them to get the most from the professional developmen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33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9900"/>
                </a:solidFill>
                <a:latin typeface="Arial"/>
              </a:rPr>
              <a:t>Key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Openness</a:t>
            </a: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Honesty</a:t>
            </a: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Respect</a:t>
            </a:r>
            <a:br>
              <a:rPr sz="4000"/>
            </a:b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Say what you think</a:t>
            </a: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Say why you think it</a:t>
            </a: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Check it out 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1:11:22Z</dcterms:created>
  <dc:creator>Administrator</dc:creator>
  <dc:description/>
  <dc:language>en-US</dc:language>
  <cp:lastModifiedBy> Administrator</cp:lastModifiedBy>
  <dcterms:modified xsi:type="dcterms:W3CDTF">2007-04-25T10:15:55Z</dcterms:modified>
  <cp:revision>5</cp:revision>
  <dc:subject/>
  <dc:title>Professional Development</dc:title>
</cp:coreProperties>
</file>